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4C7-6FEC-4721-B69E-51FEC0AC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5A5-8ADF-4F89-86BA-CD2D3839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E41-3DB0-49C4-9DD0-A183F5A8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BA5-3305-4FF2-9DB8-830C1B00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4C21-B4E0-4914-A0BE-BE0098FF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3C52-5F2A-4561-A707-BB67C6E6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1487-97A2-4BF6-A3BC-9718E18B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910B-0060-4E7A-9685-BF76D3EF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622A-E892-4352-AC9E-707B00C3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D41A-6C10-45D8-8764-5CCF0758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EAB3-7FD7-465B-986F-ABDBA01D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5F8-8254-41DC-A866-9F8D6128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C734-B7AA-445F-AEB6-74294D83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E105-6D75-4100-A844-6F820473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8639-B1AB-4ABC-9B72-A27681C2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1CC8-C62B-4974-8C2C-57369197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98FE-82B2-4B7E-9B9B-D5530308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DFC-866A-40A0-AF22-675CBDD3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841-D6AA-4416-91F3-A3A88EE8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1B7-CBD5-483E-92A5-163B496F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196-52FA-4039-BA73-A48B69B1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BD6-B575-4BDD-99EB-49B74C26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97C-BDD0-4242-9C49-1117D107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A97-9AD0-49CD-9C33-79448B2C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C58B-6063-4F9B-9AB2-17C42841CCC3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9FE0-71E3-4BB0-A4A9-F36BFD739F9F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D5EA-4516-439D-9470-C2D3266A01E0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387D-84D4-44B5-B2C9-B492F9A3F737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54D4-A4DB-447A-951E-27D45C2DF3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940FE3C-3B19-4685-9B35-F8696B8873D0}" type="datetime3">
              <a:rPr lang="en-US"/>
              <a:t>July 29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E52-AF09-457A-B0CB-D1321B7890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BDFFF-3E57-48B5-88A5-EAD76A36323A}" type="datetime3">
              <a:rPr lang="en-US"/>
              <a:t>July 29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9C8-B47D-413E-A850-AF4A6F69E2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6FB01-AAD1-4D75-A49F-A4313901A4F9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1DC-DE24-4C5C-8527-1D95A93D88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EEBAB-5941-44CB-B875-25C89F031991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A48-08F1-4B7E-9F30-3121C83D88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3D296-5C36-40A4-AB42-212B05D12AA7}" type="datetime3">
              <a:rPr lang="en-US"/>
              <a:t>July 29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5FF-C2D3-4953-9C98-F43E8AE11E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FB954-F259-4B34-AF49-32ABABA99ACF}" type="datetime3">
              <a:rPr lang="en-US"/>
              <a:t>July 29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C1B-C5CD-4C5E-8D12-DB2C080623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8A016-D17F-4A5A-A8BA-71F76102F5DB}" type="datetime3">
              <a:rPr lang="en-US"/>
              <a:t>July 29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F79-04E7-4C01-AA65-A8381752B64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46F5D-D0E9-4A7B-930F-8162EC62BD99}" type="datetime3">
              <a:rPr lang="en-US"/>
              <a:t>July 29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